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3FB-F71E-4219-BDA5-8C81496A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F0F-BF8E-4743-8830-8ECD0C11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890C-36A3-4120-BF96-1A7EAFF4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433-A25C-42E0-8DA1-9085FBFC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67B-4597-4BC5-BC23-CB98E523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837-A791-4482-9396-9BC5A9DF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7C6-DB9E-4F1E-A242-5F269DF7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57D-3350-48B4-B905-2A720F3D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EAB-A097-47A6-8EDA-93F85C2A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1A69-1CDF-4571-A674-9E9DE338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C5C-94DE-4942-B088-4F938316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83AF-DC13-4784-A35A-3C1310A2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3D12-1B06-4E34-9F0E-C69847825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P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t is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 I interes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7:58:55Z</dcterms:created>
  <dc:creator>BHPRSD</dc:creator>
  <dc:description/>
  <dc:language>en-US</dc:language>
  <cp:lastModifiedBy>BHPRSD</cp:lastModifiedBy>
  <dcterms:modified xsi:type="dcterms:W3CDTF">2007-09-12T17:58:55Z</dcterms:modified>
  <cp:revision>1</cp:revision>
  <dc:subject/>
  <dc:title>Book Pass</dc:title>
</cp:coreProperties>
</file>